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512-E45D-4AAF-B84A-EE790474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D57-3207-46ED-AAB9-7B54FA52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16D-87B1-4C0A-8769-95707F2F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289-132B-4316-9529-20B6253C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C912-B298-41EC-920F-3E3BCAD9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2B64-28AA-4323-ABBF-C72F57FB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A8EF-3510-4832-937C-1965B220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1902-B491-47AD-8DE4-C933CBD0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A550-C000-4206-A615-386997E0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BE73-1FAA-4276-AA8A-A7E5514A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38F0-DCE5-41FF-943F-E47836FE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9DA4-0E5D-4694-801A-B3357702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3C34-80A1-4C77-8A49-E9B4835D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F1C5-1326-4BA9-90C9-2F61DB60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7CDB-48DC-49A4-BDE0-9762ED9B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1563-87B7-49D5-920D-EA4C6724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C88B-497B-447B-8E46-60FAB81B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1E3-5421-4106-93B2-0B32CB48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AC0-9160-4E68-AC12-5A1F6B15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92F2-CBAC-47BC-820A-3B39979D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CAFE-B604-426C-80A3-5A1566C7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DC93-02A6-485A-9325-12F90B08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2AC3-4AE0-461B-8E78-47ECA710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5C6-B42D-4C0A-9E24-8438A0F5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4CC6-52CF-4F23-86D3-0C33F96A0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967B-84A0-496B-AD56-A509F0489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MSTIA 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2880" y="1542960"/>
            <a:ext cx="138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ing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5429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92320" y="15429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39240" y="15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bb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45920" y="153360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380880" y="2065320"/>
            <a:ext cx="7929720" cy="36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What format is an outline created in using the Save As comma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.do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.tx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.r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.ppt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2676600" y="2070000"/>
            <a:ext cx="163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rtf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609480" y="1981080"/>
            <a:ext cx="719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 is a _____ program which allows users to create professional slide show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 Process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sh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 graph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101960" y="2819520"/>
            <a:ext cx="704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Presentation graphic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96920" y="1773360"/>
            <a:ext cx="894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developing a presentation, it is a good rule of thumb to keep the words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descriptive and detailed as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brevi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 minimum (use the less is more principl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lengthy as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418320" y="2638440"/>
            <a:ext cx="810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 minimum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e the less is more principle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419040" y="1996920"/>
            <a:ext cx="790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preparing for a presentation, the best place is start is by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ing a ne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yzing the audi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ing what is to be includ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ginning to gather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828800" y="2209680"/>
            <a:ext cx="640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Establishing a need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990720" y="1981080"/>
            <a:ext cx="7010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that is to be hidden from the audience should be placed in the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line pa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s pa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pa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s ar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"/>
          <p:cNvSpPr/>
          <p:nvPr/>
        </p:nvSpPr>
        <p:spPr>
          <a:xfrm>
            <a:off x="3076920" y="3105000"/>
            <a:ext cx="438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s pan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380880" y="1523880"/>
            <a:ext cx="838224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ile name appears in the _____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b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Access Toolb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tle b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u b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"/>
          <p:cNvSpPr/>
          <p:nvPr/>
        </p:nvSpPr>
        <p:spPr>
          <a:xfrm>
            <a:off x="380880" y="182880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 you hide an unwanted slid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delete from the Home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the slide to the bottom and choose to view all other sli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Hide from the shortcut men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s cannot be hidd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"/>
          <p:cNvSpPr/>
          <p:nvPr/>
        </p:nvSpPr>
        <p:spPr>
          <a:xfrm>
            <a:off x="863640" y="2724120"/>
            <a:ext cx="529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Hide from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hortcut menu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80880" y="1992240"/>
            <a:ext cx="812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s are easily rearranged in the _____ pa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ou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2958120" y="2430360"/>
            <a:ext cx="223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Slide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380880" y="2041560"/>
            <a:ext cx="785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methods is typically used to rearrange slid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913040" y="2209680"/>
            <a:ext cx="483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380880" y="1762200"/>
            <a:ext cx="825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 is the default view in Microsoft PowerPoint 2010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lin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s P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Sh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3168720"/>
            <a:ext cx="274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685800" y="195408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 are boxes that are displayed in a new slid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ar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box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hol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box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911600" y="3168720"/>
            <a:ext cx="446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Placehold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890360" y="3168720"/>
            <a:ext cx="304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Title ba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lid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52280" y="1828800"/>
            <a:ext cx="883944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three areas are visible in Normal Vie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, clipart, and outline are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, clipart, and slide view are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/outline pane, slide view, and notes view are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out view, slide view, and notes view are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866880" y="1687680"/>
            <a:ext cx="7142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Slide/outline pane, slide view, and notes view area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297000" y="1828800"/>
            <a:ext cx="8594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s or footers may be applied to the presentation using the command on the _____ Ribb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e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652760" y="2144880"/>
            <a:ext cx="542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insert 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58680" y="2057400"/>
            <a:ext cx="908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is the command located to insert clip art or a SmartArt Graphic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ert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913400" y="2106720"/>
            <a:ext cx="4767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Insert Ribbon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596880" y="1828800"/>
            <a:ext cx="849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_____ Ribbon includes the proofing tools, comments, and protec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ofrea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680560" y="2743200"/>
            <a:ext cx="2741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Review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382680" y="2057400"/>
            <a:ext cx="794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Ribbon allows a picture to be placed on a slid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ert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900800" y="3154320"/>
            <a:ext cx="229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Insert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685800" y="1946160"/>
            <a:ext cx="7772400" cy="42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Which of the following characters are allowed in a filena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? question ma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* aster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_ undersc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: col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409680" y="1905120"/>
            <a:ext cx="810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Ribbon would you choose to begin the process of adding a slide transi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ert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-Ins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itions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631440" y="2971800"/>
            <a:ext cx="834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Transition Ribb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380880" y="1828800"/>
            <a:ext cx="8305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 are used to liven up the presentation, hold the audience’s attentions, and emphasize poi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ou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tions or eff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259200" y="2438280"/>
            <a:ext cx="790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tions or effect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801720" y="1828800"/>
            <a:ext cx="796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of the following is not considered formatting tex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the font styl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ll Chec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ng a bord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the font siz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859320" y="2522520"/>
            <a:ext cx="42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pell check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066680" y="1828800"/>
            <a:ext cx="676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of the following is NOT one of the general types of animation used in PowerPoi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l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r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2607480" y="2209680"/>
            <a:ext cx="31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Sublime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380880" y="160020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can clip art be recolor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recolor from the Format dialog box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fill color from the Drawing Tools Format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shape fill form the Drawing Tools Format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 art cannot be recolor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411840" y="2451240"/>
            <a:ext cx="6527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recolor 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Format 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 box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"/>
          <p:cNvSpPr/>
          <p:nvPr/>
        </p:nvSpPr>
        <p:spPr>
          <a:xfrm>
            <a:off x="2234520" y="3105000"/>
            <a:ext cx="494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 underscor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380880" y="1752480"/>
            <a:ext cx="869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most common format of sound files used in PowerPoi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P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768680" y="3168720"/>
            <a:ext cx="284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WAV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52280" y="1495440"/>
            <a:ext cx="87631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 is located directly above the Home Ribbon Ta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Access Toolb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Toolb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cut Men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Toolb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uch is your team betting on this question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66480" y="2286000"/>
            <a:ext cx="721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- Quick Access Toolba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95120" y="1295280"/>
            <a:ext cx="89582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the presentation in _____ will conserve ink and may be selected using the Print What area of the Print dialog box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sca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slides per p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906560" y="3168720"/>
            <a:ext cx="3530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Grayscal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44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380880" y="1295280"/>
            <a:ext cx="81536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_____ area of the print dialog box allows the users to select the slide numbers or slide range to pri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ra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wh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ou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544040" y="2611440"/>
            <a:ext cx="388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Print rang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Paige Haney</cp:lastModifiedBy>
  <dcterms:modified xsi:type="dcterms:W3CDTF">2011-11-02T02:32:00Z</dcterms:modified>
  <cp:revision>98</cp:revision>
  <dc:subject/>
  <dc:title>Jeopardy</dc:title>
</cp:coreProperties>
</file>